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30DD-E4C0-4A45-86DB-2BAC6883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B70C-499F-4248-B386-D7C13D124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D415-F46A-429C-8E74-66F6B4E67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3790-0B62-48D7-965A-27495BEA0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CD27-14FA-48CB-8A46-EC84D54568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28D5-6B89-4C47-B56C-4435A5246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1E3C-24B8-4A2E-8718-7D41B4121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6666-BBD5-4115-9749-23FA85E64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DE68-3FE3-4731-A932-C5D9B346D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DFA1-0C23-47D2-8AD3-574096D2F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732B-353F-4B41-A1EB-C0391A5FF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3052-5CA5-4EB5-A264-A08610A10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8A56-5E4F-4461-940E-CD8AA6B80A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D2CD-EEEB-4947-AD17-6BBD6040C0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Numb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823-F43C-4CE2-8B5B-1CD2FE56B6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Learning Goal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Symbol"/>
                <a:ea typeface="Symbol"/>
              </a:rPr>
              <a:t></a:t>
            </a:r>
            <a:r>
              <a:rPr b="0" lang="en-CA" sz="3200" spc="-1" strike="noStrike">
                <a:solidFill>
                  <a:srgbClr val="b42478"/>
                </a:solidFill>
                <a:latin typeface="Times New Roman"/>
                <a:ea typeface="Times New Roman"/>
              </a:rPr>
              <a:t>-</a:t>
            </a: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To provide tools and strategies to help teachers manage students at different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To introduce teachers to CLIPS, and Gap Closing materials and give them some time to “play” with them.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EC6-A4A9-4EA0-8EDE-E9905D330F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inds On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Agree or Disagre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D06990_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259092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61B2-0A9B-46D2-A77C-FED9B7D551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20570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1000"/>
          </a:bodyPr>
          <a:p>
            <a:pPr marL="36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Math Carouse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ered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9DAA-DEF4-487C-A823-D55F38D597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Let’s Tal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B992-1D22-46E0-8C3B-60DF6F6BD8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000"/>
            </a:b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Auditory Wordle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2120" y="21337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9000"/>
          </a:bodyPr>
          <a:p>
            <a:pPr marL="3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b42478"/>
                </a:solidFill>
                <a:latin typeface="Tahoma"/>
                <a:ea typeface="Times New Roman"/>
              </a:rPr>
              <a:t>Many suggestions will be offered for ways to differentiate instruction.  These are all predicated on a classroom climate where mathematical conversation is the norm, a variety of student approaches are encouraged and valued, and students feel free to take ris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hdsb</cp:lastModifiedBy>
  <dcterms:modified xsi:type="dcterms:W3CDTF">2011-08-01T23:43:15Z</dcterms:modified>
  <cp:revision>10</cp:revision>
  <dc:subject/>
  <dc:title>&lt;Title&gt;</dc:title>
</cp:coreProperties>
</file>